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25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13.pct" ContentType="image/x-pict"/>
  <Override PartName="/ppt/media/jeop.wav" ContentType="audio/x-wav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1.pct" ContentType="image/x-pict"/>
  <Override PartName="/ppt/media/image30.pct" ContentType="image/x-pict"/>
  <Override PartName="/ppt/media/image2.jpeg" ContentType="image/jpeg"/>
  <Override PartName="/ppt/media/image28.pct" ContentType="image/x-pict"/>
  <Override PartName="/ppt/media/image42.pct" ContentType="image/x-pict"/>
  <Override PartName="/ppt/media/image43.pct" ContentType="image/x-pict"/>
  <Override PartName="/ppt/media/image32.pct" ContentType="image/x-pict"/>
  <Override PartName="/ppt/media/image44.pct" ContentType="image/x-pict"/>
  <Override PartName="/ppt/media/image45.pct" ContentType="image/x-pict"/>
  <Override PartName="/ppt/media/image46.pct" ContentType="image/x-pict"/>
  <Override PartName="/ppt/media/image53.png" ContentType="image/png"/>
  <Override PartName="/ppt/media/image50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40.pct" ContentType="image/x-pict"/>
  <Override PartName="/ppt/media/image52.pct" ContentType="image/x-pict"/>
  <Override PartName="/ppt/media/image29.pct" ContentType="image/x-pict"/>
  <Override PartName="/ppt/media/image39.pct" ContentType="image/x-pict"/>
  <Override PartName="/ppt/media/image9.pct" ContentType="image/x-pict"/>
  <Override PartName="/ppt/media/image4.pct" ContentType="image/x-pict"/>
  <Override PartName="/ppt/media/image34.pct" ContentType="image/x-pict"/>
  <Override PartName="/ppt/media/image38.pct" ContentType="image/x-pict"/>
  <Override PartName="/ppt/media/image8.pct" ContentType="image/x-pict"/>
  <Override PartName="/ppt/media/image6.pct" ContentType="image/x-pict"/>
  <Override PartName="/ppt/media/image36.pct" ContentType="image/x-pict"/>
  <Override PartName="/ppt/media/image10.pct" ContentType="image/x-pict"/>
  <Override PartName="/ppt/media/image47.pct" ContentType="image/x-pict"/>
  <Override PartName="/ppt/media/image5.pct" ContentType="image/x-pict"/>
  <Override PartName="/ppt/media/image35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39B-6606-4C4D-80A3-4448E032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65F-A9AF-453B-BAEE-7F8657B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C1C4-9CA2-4C10-A198-85BD7E4D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81E-C518-4968-BA29-F455F0E0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F264-BB5F-4A96-8C2B-FC4698D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D351-C3C3-410B-A236-28C7EF0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928D-68AE-48FF-84CE-52FBB683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4AAA-C66D-4B43-803E-F643FDE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88A0-B5FE-43B4-9790-6CF0C4F7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275-9CA6-4253-ACE8-60F87A9F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6BB7-F7F0-4E0C-9E5A-632B179E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324-C7FE-4D12-9EE4-272CD70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3E26-35E5-44BF-886A-452B3D3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CEF-4C76-4BBE-BED0-66B33BEB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978D-B1A2-4E81-B4E3-FC55C338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E7D-C268-4D28-A7DC-B1D6F0D3E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4CCA-DF81-4C86-ACDF-726988CA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E81-BBF0-4383-89F0-47C97A79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E86-F131-4E18-B6B8-67860F45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EF5-A022-4709-9D34-A8890B14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E48-4C35-44F4-81F1-817A62E9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B6B-BD9A-4AB4-A79F-35306D5E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263-25DB-43E6-BECA-27D0F5B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815-CA6D-48E2-817F-C54C6A5B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1285-8AC1-4469-B272-B66DD1A4E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05C-6A18-4B10-8F48-57F9CAD88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ct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ct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ct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ct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pct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ct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ct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ct"/><Relationship Id="rId5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ct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pct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ct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pct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ct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pct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ct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ct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ct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7.pct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pct"/><Relationship Id="rId4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ct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pct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pct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23880"/>
          <a:ext cx="77752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761760" y="15238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520" y="15238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7480" y="1523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1360" y="152388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65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88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2819520" y="2209680"/>
          <a:ext cx="3644640" cy="22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209680"/>
                    <a:ext cx="36446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0" y="2209680"/>
          <a:ext cx="4419720" cy="149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209680"/>
                    <a:ext cx="441972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685800" y="2438280"/>
          <a:ext cx="7689960" cy="17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768996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2743200" y="2438280"/>
          <a:ext cx="2971800" cy="186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438280"/>
                    <a:ext cx="2971800" cy="18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609480" y="2666880"/>
          <a:ext cx="80010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666880"/>
                    <a:ext cx="80010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2895480" y="2743200"/>
          <a:ext cx="2863800" cy="15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743200"/>
                    <a:ext cx="28638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1676520" y="2590920"/>
          <a:ext cx="5715000" cy="13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590920"/>
                    <a:ext cx="571500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3809880" y="2286000"/>
          <a:ext cx="131472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286000"/>
                    <a:ext cx="13147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666880"/>
          <a:ext cx="556236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66880"/>
                    <a:ext cx="556236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2971800" y="2514600"/>
          <a:ext cx="314964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514600"/>
                    <a:ext cx="314964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2666880" y="2362320"/>
          <a:ext cx="312444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362320"/>
                    <a:ext cx="312444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1676520" y="2666880"/>
          <a:ext cx="539748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666880"/>
                    <a:ext cx="53974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Adding &amp; Subtrac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3581280" y="2438280"/>
          <a:ext cx="2286000" cy="19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438280"/>
                    <a:ext cx="22860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2286000" y="2209680"/>
          <a:ext cx="4648320" cy="18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09680"/>
                    <a:ext cx="464832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819520" y="2362320"/>
          <a:ext cx="294624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362320"/>
                    <a:ext cx="2946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2057400" y="2286000"/>
          <a:ext cx="488952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286000"/>
                    <a:ext cx="488952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2895480" y="2209680"/>
          <a:ext cx="275616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209680"/>
                    <a:ext cx="275616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1143000" y="1981080"/>
          <a:ext cx="6400800" cy="14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640080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"/>
          <p:cNvGraphicFramePr/>
          <p:nvPr/>
        </p:nvGraphicFramePr>
        <p:xfrm>
          <a:off x="1905120" y="2286000"/>
          <a:ext cx="5181480" cy="16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2286000"/>
                    <a:ext cx="51814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762120" y="1981080"/>
          <a:ext cx="7696080" cy="215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769608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2209680" y="2362320"/>
          <a:ext cx="4718160" cy="13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362320"/>
                    <a:ext cx="47181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3581280" y="2133720"/>
          <a:ext cx="13780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133720"/>
                    <a:ext cx="13780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1981080" y="2133720"/>
          <a:ext cx="4724640" cy="16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133720"/>
                    <a:ext cx="472464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Multipl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2438280" y="2133720"/>
          <a:ext cx="381024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133720"/>
                    <a:ext cx="38102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"/>
          <p:cNvGraphicFramePr/>
          <p:nvPr/>
        </p:nvGraphicFramePr>
        <p:xfrm>
          <a:off x="3276720" y="1981080"/>
          <a:ext cx="1585800" cy="22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981080"/>
                    <a:ext cx="158580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3962520" y="2286000"/>
          <a:ext cx="988920" cy="13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286000"/>
                    <a:ext cx="9889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3886200" y="1828800"/>
          <a:ext cx="127620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828800"/>
                    <a:ext cx="127620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3581280" y="1905120"/>
          <a:ext cx="1724040" cy="24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905120"/>
                    <a:ext cx="172404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3200400" y="1752480"/>
          <a:ext cx="243828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752480"/>
                    <a:ext cx="24382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3505320" y="1828800"/>
          <a:ext cx="1906560" cy="23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828800"/>
                    <a:ext cx="190656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2971800" y="1676520"/>
          <a:ext cx="2673360" cy="25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676520"/>
                    <a:ext cx="267336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2971800" y="1905120"/>
          <a:ext cx="2514600" cy="219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905120"/>
                    <a:ext cx="251460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981080" y="2057400"/>
          <a:ext cx="464832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57400"/>
                    <a:ext cx="464832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2971800" y="2133720"/>
          <a:ext cx="2971800" cy="27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133720"/>
                    <a:ext cx="2971800" cy="27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Divi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3200400" y="2057400"/>
          <a:ext cx="2381400" cy="21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057400"/>
                    <a:ext cx="23814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3429000" y="1905120"/>
          <a:ext cx="229536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905120"/>
                    <a:ext cx="22953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733920" y="2209680"/>
          <a:ext cx="1035000" cy="168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2209680"/>
                    <a:ext cx="103500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3048120" y="1600200"/>
          <a:ext cx="257652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00200"/>
                    <a:ext cx="2576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"/>
          <p:cNvGraphicFramePr/>
          <p:nvPr/>
        </p:nvGraphicFramePr>
        <p:xfrm>
          <a:off x="2895480" y="1828800"/>
          <a:ext cx="2540160" cy="19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828800"/>
                    <a:ext cx="2540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3352680" y="2057400"/>
          <a:ext cx="213372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057400"/>
                    <a:ext cx="21337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3124080" y="2133720"/>
          <a:ext cx="297180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4080" y="2133720"/>
                    <a:ext cx="2971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124080" y="1981080"/>
          <a:ext cx="266724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981080"/>
                    <a:ext cx="266724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819520" y="2209680"/>
          <a:ext cx="2921040" cy="18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209680"/>
                    <a:ext cx="292104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2133720" y="2209680"/>
          <a:ext cx="4213080" cy="215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209680"/>
                    <a:ext cx="4213080" cy="21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0" name=""/>
          <p:cNvGraphicFramePr/>
          <p:nvPr/>
        </p:nvGraphicFramePr>
        <p:xfrm>
          <a:off x="2819520" y="2133720"/>
          <a:ext cx="2895480" cy="20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133720"/>
                    <a:ext cx="289548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Dividing Ag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2514600" y="1981080"/>
          <a:ext cx="3638520" cy="255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981080"/>
                    <a:ext cx="36385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0320" y="2438280"/>
            <a:ext cx="72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adicals are the inverse oper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what other mathematical oper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6680" y="2743200"/>
            <a:ext cx="254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on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747800" y="1870200"/>
          <a:ext cx="5300640" cy="26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7800" y="1870200"/>
                    <a:ext cx="530064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1538280" y="1944720"/>
          <a:ext cx="5699160" cy="30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1944720"/>
                    <a:ext cx="5699160" cy="30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2238480" y="2286000"/>
          <a:ext cx="4611600" cy="14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286000"/>
                    <a:ext cx="461160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Simplif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2971800" y="2362320"/>
          <a:ext cx="3124080" cy="11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362320"/>
                    <a:ext cx="312408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 Department of Education</cp:lastModifiedBy>
  <dcterms:modified xsi:type="dcterms:W3CDTF">2008-10-20T17:33:47Z</dcterms:modified>
  <cp:revision>22</cp:revision>
  <dc:subject/>
  <dc:title>Jeopardy</dc:title>
</cp:coreProperties>
</file>